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8F5A-CBBE-4CA8-91B8-47713C33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82F-95E8-43C5-8F27-2D5E5CEA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CBED-C744-45B0-A227-B98E9A2D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5AD-1A06-4ECE-8C2D-2AB01CAB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7BA-4110-43CF-AF2F-AE201B58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3B5-D448-4E55-859F-ECC8D88A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122-6745-46F2-AEA7-CA915597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893-A054-41DD-B19D-128B4993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A51C-6251-430A-A8BC-709952AA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2DC-A74E-4806-8A7B-6FBE152C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9130-28EA-409A-A1E3-8578D0F8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4D32-4BC6-49F7-AE73-1A300C13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1923-B7A0-45EB-8702-CE5C542E9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8/8d/Emperor_penguin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upload.wikimedia.org/wikipedia/commons/6/68/Arctocephalus_pusillus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upload.wikimedia.org/wikipedia/commons/d/d5/Arctic_Hare.jpg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3276720" cy="4419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File:Emperor pengui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000" y="4724280"/>
            <a:ext cx="2994120" cy="4381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File:Arctocephalus pusillu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81280" y="177840"/>
            <a:ext cx="3405240" cy="4165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File:Arctic Har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49600" y="4599000"/>
            <a:ext cx="30798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434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592440" y="76320"/>
            <a:ext cx="3113280" cy="4343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4000" y="4800600"/>
            <a:ext cx="3298680" cy="422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562200" y="4724280"/>
            <a:ext cx="3143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5400" y="4648320"/>
            <a:ext cx="3257280" cy="4381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0200" y="0"/>
            <a:ext cx="3146400" cy="4495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505320" y="0"/>
            <a:ext cx="3276360" cy="4419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505320" y="4724280"/>
            <a:ext cx="3130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22790</cp:lastModifiedBy>
  <dcterms:modified xsi:type="dcterms:W3CDTF">2008-12-18T23:43:58Z</dcterms:modified>
  <cp:revision>9</cp:revision>
  <dc:subject/>
  <dc:title>Slide 1</dc:title>
</cp:coreProperties>
</file>